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7E7A-8015-408D-89FC-76FA40B1DEB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place the words behind the  bullet points and put in your ow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place the words behind the  bullet points and put on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rief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dea about your company`s  challenges for one po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place the words behind the  bullet points and put on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earning need for you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place the words behind the  bullet points and put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rief description of your learning objectives on each of the poi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place thewords behind the  bullet points and put a brief description of one of your strong points behind each of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ake into account your specific knowledge, specific managerial skills or specific experience you have acquired so f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place thewords behind the  bullet points and put a brief description of your expectations about the introductory workshop behind each of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C4D-1B00-4293-B2E9-E7AFC690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28C-FC50-4353-9241-BBD93982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24A-0E97-4CC8-81F2-88B0364D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12D-4AA3-4D09-B959-768ED8C7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836-C16C-4379-884F-9DAF2D0D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519-B396-41DB-8B78-47245335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03E-E897-473C-9E9C-A586BF2D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204-AEA6-49F2-AEF3-4B1FD2E1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D13-9199-41FE-BF92-AD7F265E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72E-1936-4247-9AE6-BE4B4EF4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F60-25F3-42BA-9C49-4F539A3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90B-3A4F-4AF4-9F75-8396269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98F4-FD54-444A-86F0-151B80D40F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4953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TP-Introductory seminar (27.10.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ergey Ariski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ricultural Training Foundatio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s organization Mana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workshops on modern agricultural machinery and technologies deliv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ing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ual and visual aid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ork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0666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ersonal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_eu_blau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6400" cy="541440"/>
          </a:xfrm>
          <a:prstGeom prst="rect">
            <a:avLst/>
          </a:prstGeom>
          <a:ln w="0">
            <a:noFill/>
          </a:ln>
        </p:spPr>
      </p:pic>
      <p:pic>
        <p:nvPicPr>
          <p:cNvPr id="52" name="logo_mtp_small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895320" cy="53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5D3-EE36-40E9-BC27-7F6802F42E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aining Services and consulting services in the field of agricultural production.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xtual and visual aids  on agricultural machinery and technolog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orking out and manufacturing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0666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he challenges of my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3808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TP-Introductory seminar (27.10.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ogo_eu_blau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6400" cy="541440"/>
          </a:xfrm>
          <a:prstGeom prst="rect">
            <a:avLst/>
          </a:prstGeom>
          <a:ln w="0">
            <a:noFill/>
          </a:ln>
        </p:spPr>
      </p:pic>
      <p:pic>
        <p:nvPicPr>
          <p:cNvPr id="57" name="logo_mtp_small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89532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658-8D44-424E-880E-2A72A12A89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p-to date methods of farmers training on the farm machinery producing plants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uropean Farm machinery production development t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ance learning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odern economy t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0666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he training needs of my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2209320" y="380520"/>
            <a:ext cx="4953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TP-Introductory seminar (27.10.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_eu_blau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6400" cy="541440"/>
          </a:xfrm>
          <a:prstGeom prst="rect">
            <a:avLst/>
          </a:prstGeom>
          <a:ln w="0">
            <a:noFill/>
          </a:ln>
        </p:spPr>
      </p:pic>
      <p:pic>
        <p:nvPicPr>
          <p:cNvPr id="62" name="logo_mtp_small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895320" cy="53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EB4-05EE-4CC3-9E1C-83DF7CF56A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s on the problems of agriculture organization in Eur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an countries  practice in training workshops on modern agricultural machinery and technologies deliv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ing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ual and visual aid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ork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0666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hat do I want to learn during the traineeshi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09320" y="380520"/>
            <a:ext cx="4953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TP-Introductory seminar (27.10.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ogo_eu_blau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6400" cy="541440"/>
          </a:xfrm>
          <a:prstGeom prst="rect">
            <a:avLst/>
          </a:prstGeom>
          <a:ln w="0">
            <a:noFill/>
          </a:ln>
        </p:spPr>
      </p:pic>
      <p:pic>
        <p:nvPicPr>
          <p:cNvPr id="67" name="logo_mtp_small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895320" cy="53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AE2-965C-4FEE-9572-7BB7CEC470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arm machinery knowledge and professional skills. University teacher exper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nowledge of today’s situation in agriculture gives me a chance to choose properly my activity 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0666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y personal strength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209320" y="380520"/>
            <a:ext cx="4953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TP-Introductory seminar (27.10.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ogo_eu_blau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6400" cy="541440"/>
          </a:xfrm>
          <a:prstGeom prst="rect">
            <a:avLst/>
          </a:prstGeom>
          <a:ln w="0">
            <a:noFill/>
          </a:ln>
        </p:spPr>
      </p:pic>
      <p:pic>
        <p:nvPicPr>
          <p:cNvPr id="72" name="logo_mtp_small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895320" cy="53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1CC-3F87-482A-B61F-3AB3929199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 get a widespread information on the modern economy tendencies i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formation on the methods of planning and work with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on the methods of work with clients and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0666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hat do I expect from the introductory semin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2209320" y="380520"/>
            <a:ext cx="4953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TP-Introductory seminar (27.10.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ogo_eu_blau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6400" cy="541440"/>
          </a:xfrm>
          <a:prstGeom prst="rect">
            <a:avLst/>
          </a:prstGeom>
          <a:ln w="0">
            <a:noFill/>
          </a:ln>
        </p:spPr>
      </p:pic>
      <p:pic>
        <p:nvPicPr>
          <p:cNvPr id="77" name="logo_mtp_small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895320" cy="53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D6C-493F-4DF6-8102-829F8024AB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8:20:46Z</dcterms:created>
  <dc:creator>ulrich theuerkauf</dc:creator>
  <dc:description/>
  <dc:language>en-US</dc:language>
  <cp:lastModifiedBy>Арискин С. А.</cp:lastModifiedBy>
  <dcterms:modified xsi:type="dcterms:W3CDTF">2003-10-20T12:30:39Z</dcterms:modified>
  <cp:revision>10</cp:revision>
  <dc:subject/>
  <dc:title>Kein Folientitel</dc:title>
</cp:coreProperties>
</file>